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B28F-7ACC-4C69-BE88-4553492B26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is a family affair, if parent’s are not interested in their child’s school, the child will also not be interested in their personal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o your child builds parent child bonds and improves the child’s vocabulary thus closing the achievement gap between the different socioeconomic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helmingly, all the research indicate that parent involvement has a positive impact on student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ent’s interest in their child’s work at home or at school allows the child to establish a value on his/her edu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s do not involve parents in the decision making and are content with their participation in PTA and school curriculum mee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861-A2EF-455F-952A-C26925D0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1E7-3982-438A-A81A-F2F9732A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9A6-2A36-4B66-994F-D9509C52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B15-AFAD-4EDE-B7E3-2A300F57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9DB3-2286-4439-B6CB-DA3C0345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FF92-2B02-4C6E-96B1-89025F6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D74-FC76-4094-8598-137589C0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1E41-88E4-4E6C-B6AB-DD9F5CB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45FC-D564-4579-80D6-C0EC9EF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B27E-95E5-4CC0-8DC1-6678F44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A8D6-84B3-4100-A9E0-D20E2A2A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01E-47FB-484B-B0AA-775D9BC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7974-FF23-4EF7-8D4C-22D4908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0A85-6746-4760-841E-F2E7508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6E5A-B508-420A-97EF-FF9A4174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9BB-87D2-4E82-B0F1-06B2FA02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192-04C9-43E4-B8B8-B912A46E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9C0-BBE4-4000-A109-CF01048D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C7A-9712-43CE-9D13-0148E00A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836-B93E-424F-8FCF-3A9288E0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A95-39F9-48C3-B40E-8A28599D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781E-4995-4BC2-8F70-589E7E6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E2F-FEFF-498D-8EA2-98DBF205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FA6-C103-498F-9346-824C7A6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46A-F0AF-4C1F-A1FA-D8EF31BACC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BCE1-F5D1-494B-90EA-8BDF920814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Parent Involvement and Academic Achievem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usan Campbell &amp; Sharon Glasg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DU 702.2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all 200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9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4642"/>
                </a:solidFill>
                <a:latin typeface="Comic Sans MS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HR-1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 this research, we will provide eviden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prove that parental involvement in a child’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ademic life will have a positive improvement 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child’s grades and overall performance 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o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HR-2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6th Grade classes of 25 students in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oklyn public school will be assess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ing Changes L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http://etc.usf.edu/clipart/16100/16161/reading_16161.htm"/>
          <p:cNvPicPr/>
          <p:nvPr/>
        </p:nvPicPr>
        <p:blipFill>
          <a:blip r:embed="rId1"/>
          <a:stretch/>
        </p:blipFill>
        <p:spPr>
          <a:xfrm>
            <a:off x="155520" y="46080"/>
            <a:ext cx="1047960" cy="89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Butterfly And Flowers Clipart"/>
          <p:cNvPicPr/>
          <p:nvPr/>
        </p:nvPicPr>
        <p:blipFill>
          <a:blip r:embed="rId2"/>
          <a:stretch/>
        </p:blipFill>
        <p:spPr>
          <a:xfrm>
            <a:off x="3276720" y="2362320"/>
            <a:ext cx="251460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Mapp, K. L. (2002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 new  wave of evid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ustin, TX: National Center for Family and Community Connections with School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trikakou, E. N., Weissberg, R. P., Redding, S., &amp; Walberg, H. J. (Eds.). (2005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chool-family partnerships: Fostering children’s school succes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New York: Teachers College P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Berla, N. (1994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). A new generation of evidence: The family is critical to student achieveme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St Louis, MO: Danforth Foundation and Flin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ey, N., Lewis, L., Farris, E., &amp; Westat, I. (1998). Parent Involvement in Children's Education: Efforts by Public Elementary Schools. National Center for Education Statistics Statistical Analysis Report. http://search.ebscohos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imone, L. (1999).  Linking Parent Involvement with Student Achievement: Do Race and Income Matt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over-Dempsey, K. &amp; Walker, J. (2005).  Why Do Parents Become Involved? Research Findings and Implica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armouth, J. (2004). Issues in Addressing Children’s Difficulties in Literacy Development through Family-School Partnership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ap, 0. K. &amp; Enoki, D. (2007). In Search of the Elusive Magic Bullet:  Parental Involvement and Student Outcomes, Perceptions of Parent Involvement in Academic Achievement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ng, W., &amp; Sen Q. (2006). Longitudinal Effects of Parenting on Children's Academic Achievement in African American Famil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ll, N., and Tyson, D., (2009) Parental Involvement in Middle School: A Meta-Analytic Assessment of the Strategies That Promote Achievement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dgett, R., Best Ways to Involve Par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trikakou, E., The Power of Parent Involvement: Evidence, Ideas and Tools for Student Success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ttle-Bailey, L., (2004).  Interactive homework for increasing parent involvement and student reading achievement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ldridge, D., (2001). Parent involvement: It's worth the effort. Young childre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pstein, J., (2005). A case study of the partnership schools Comprehensive School Refor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wes, C., (2005).  Parental involvement and its influence on reading achievement of 6th grade student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na, D., (2000). Parent involvement: Influencing factors and implic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ellman, G., &amp; Waterman, J., (1998). Understanding the impact of parent school involvement on children's educational outco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indicates that there are positive academic outcomes stemming from parental involvement with benefits beginning in early childhood throughout adolescence and beyo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&amp; Mapp, 2002; Patrikakou, Weisberg, Redding, &amp; Walberg, 2005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children move up in grades, parent involvement wanes.  This research project will attempt to prove that increasing parent involvement will improve children’s academic achiev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eview of Litera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well-established fact that parental involvement is linked to children’s success at school. When parents are involved in their children’s education at home, they do better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and Berla,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view of Literatur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involvement is a valuable component of any student’s edu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evel of parent–school involvement is a better predictor of grades than are standardized test sco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esimone, 1999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eview of Literature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12 years of 180 six-hour days spent in school add up to only 13 % of a student’s waking, learning time during the first 18 years of life. The rest, 87% is spent out of school, primarily at home. (Walber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4889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stein’s Framework of Six Types of Involvement:  parenting, communicating, volunteering, learning at home, decision making and collaborating with commun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4508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avenues for involving parents in school can be closed to parents due to specific cultural knowled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00:42Z</dcterms:created>
  <dc:creator>1b-9</dc:creator>
  <dc:description/>
  <dc:language>en-US</dc:language>
  <cp:lastModifiedBy>SCampbell</cp:lastModifiedBy>
  <dcterms:modified xsi:type="dcterms:W3CDTF">2009-11-19T18:58:21Z</dcterms:modified>
  <cp:revision>35</cp:revision>
  <dc:subject/>
  <dc:title>Slide 1</dc:title>
</cp:coreProperties>
</file>